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1803-A7ED-4228-BA58-5D505210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B3EB-EFF6-4F4B-BBC1-D638959E2A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6232-4706-42EA-9438-E9B02AED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761F-0453-4580-A53E-803A631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3D915-865E-440C-AA9D-CA1C25FD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F310-CAFD-4162-A409-1B9A771E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D099-FC52-41D5-8FA2-CF1779B4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C8D2-B794-4CB5-8B25-C076E33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DFEB-E997-42AE-A9E7-7520A2D9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479D-C773-4598-A070-4754283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426A-290F-45EA-ADB7-3056BC8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E932-6002-4A76-A3BA-2FB0B3E9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5F5C-7E19-4F5E-A6DC-3938DFA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C61D-739D-446B-8FA4-D015F4F5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BA11-0B31-445D-A239-28873B5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EDA3-C0CF-4EF3-92B6-7B45378D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9695-FE69-44E6-B913-DDCB95C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BFE5-EB86-4DEB-A9DC-B7C6D376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30F9-E5D2-4475-8CA7-87ECB2EC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81B9-4692-4913-8E26-C6ABE150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6DC5-1137-4E74-9C8B-3291B25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C71F-8B33-4B9F-9981-6BB9B15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25F1-38B4-4CE2-BCDB-3AD53DC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FC35-3E7C-466E-97A2-6CAB9B2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251F-1FF8-44DC-B790-6890D23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0E7B-6B0B-4B37-AD22-3361A74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A39-754C-4446-8669-A6404EDAFC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D99-EFA5-4B8F-84AD-CB51FD1F567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8218440" cy="227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cc"/>
                </a:solidFill>
                <a:latin typeface="Tahoma"/>
              </a:rPr>
              <a:t>Το φαινόμενο του εκφοβισμού (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ullying</a:t>
            </a:r>
            <a:r>
              <a:rPr b="1" lang="el-GR" sz="2800" spc="-1" strike="noStrike">
                <a:solidFill>
                  <a:srgbClr val="ffffcc"/>
                </a:solidFill>
                <a:latin typeface="Tahoma"/>
              </a:rPr>
              <a:t>) στο δημοτικό σχολείο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11280" y="4005000"/>
            <a:ext cx="7921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Κουρκούτας, Η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Αναπλ. Καθηγητή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ffffff"/>
                </a:solidFill>
                <a:latin typeface="Tahoma"/>
              </a:rPr>
              <a:t>Πανεπιστήμιο Κρήτη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cc"/>
                </a:solidFill>
                <a:latin typeface="Tahoma"/>
              </a:rPr>
              <a:t>Γενικά ψυχικά και οικογενειακά χαρακτηριστικά των Δραστών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φυσική δύναμ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υριαρχικές και γοητευτικές προσωπικότητες με υψηλή αίσθηση αυτοεκτίμησης (κάποια από αυτά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αρορμητικές τά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λλειψη συναισθηματικής κατανόησης για τα θύματά τους /έλλειψη μεταμέλειας για τις πράξεις του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ιαταραχές ψυχικής υγείας /συναισθηματική ανωριμότη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τικοινωνικές προσωπικότητ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θύματα ενδοοικογενειακής παραμέλησης ή β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χολική αποτυχία /μη σχολική ενσωμάτω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ιαχείριση των (εσωτερικών /εξωτερικών) προβλημάτων  μέσω της επιθετικής /παραβατικής συμπεριφορά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cc"/>
                </a:solidFill>
                <a:latin typeface="Tahoma"/>
              </a:rPr>
              <a:t>Ψυχοκοινωνικά χαρακτηριστικά παιδιών-θυτώ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Παιδιά θύτες που χρησιμοποιούν κυρίως σωματικές μεθόδους θυματοποίησης /κακοποίησης υπολείποντα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ε κοινωνικές δεξιότητε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ε δεξιότητες διαπροσωπικών σχέσεων /επίλυσης προβλημάτων /διαχείρισης συγκρούσεων με εναλλακτικούς τρόπου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θεωρούν τους εαυτούς ως αποδεκτούς / δημοφιλείς λόγω της δύναμης του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Ψυχοκοινωνικά χαρακτηριστικά παιδιών-θυτών (συν.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αιδιά θύτες που χρησιμοποιούν κυρίως μη σωματικές μεθόδους θυματοποίησης /κακοποίηση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ιθανόν να έχουν ανεπτυγμένες κοινωνικές /μαθησιακές δεξιότητε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ιθανόν να προέρχονται και από ανωτέρα κοινωνικοοικονομικά στρώ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αρακτηρίζονται όμως συχνά από προβληματικά στοιχεία προσωπικότητας /ψυχοσύνθεσης /συναισθηματική ανωριμότητα /έντονες ανταγωνιστικές /επιθετικές τάσει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ffffcc"/>
                </a:solidFill>
                <a:latin typeface="Tahoma"/>
              </a:rPr>
              <a:t>Κατηγορίες Θυμάτων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ΠΑΘΗΤΙΚΑ ΘΥΜΑΤ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γχώδη, ανασφαλή, εξαιρετικά ήρεμα, ευαίσθητα, μοναχικά, μυϊκά αδύναμ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ΠΡΟΚΛΗΤΙΚΑ ΘΥΜΑΤ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(σπάνια κατηγορία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Εμπλέκονται διαρκώς σε αρνητικές πράξεις προκαλώντας τους δράστες.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cc"/>
                </a:solidFill>
                <a:latin typeface="Tahoma"/>
              </a:rPr>
              <a:t>Ο ρόλος των παρευρισκόμενων παιδιών –παιδιών «μαρτύρων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παιδιά μάρτυρες με την σιωπηρή τους στάση ενισχύουν τις τάσεις των θυτών για εκφοβισμό των άλλ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ι θύτες έχουν την εντύπωση ότι τους επιβραβεύουν /ότι γίνονται δημοφιλείς /ότι οι άλλοι τους σέβονται και τους φοβούνται όταν συστηματικά εκφοβίζουν και επιβάλλονται στους πιο αδύναμ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παιδιά μάρτυρες δεν παρεμβαίνουν διότι συνήθως φοβούνται τις συνέπει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άποια παιδιά μάρτυρες είτε αντλούν ικανοποίηση, είτε διασκεδάζουν από τον εκφοβισμό συμμαθητών τους, μη συνειδητοποιώντας τις συνέπει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cc"/>
                </a:solidFill>
                <a:latin typeface="Tahoma"/>
              </a:rPr>
              <a:t>Ο ρόλος των παρευρισκόμενων παιδιών –παιδιών «μαρτύρων» (συν.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λλά παιδιά-μάρτυρες παρακινούνται να μετέχουν και κάποια από αυτά πράγματι συμμετέχουν στον εκφοβισμό /θυματοποίηση συμμαθητών του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λλά παιδιά-μάρτυρες φοβούνται να καταγγείλουν το γεγονός σε εκπαιδευτικούς γονείς, όπως συνήθως και πολλά από τα παιδιά-θύμα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λλά παιδιά-μάρτυρες θεωρούν ότι γίνονται «καρφιά» όταν καταγγέλλουν παρόμοια επεισόδ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λλά παιδιά-μάρτυρες τείνουν να ταυτίζονται και να προσχωρούν στις ομάδες των δυνατών /παλικαράδων θυτ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Φύλο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αγόρια πέφτουν θύματα άμεσου εκφοβισμού (σωματική βίας, σεξουαλικής παρενόχλησης) ενώ τα κορίτσια έμμεσου (βρισιές, πειράγματα, αποκλεισμός /εξοστρακισμός από τις ομάδες /διαπροσωπικές σχέσεις κλπ) (Olweus,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αγόρια θύτες χρησιμοποιούν περισσότερο σωματικούς /βίαιους τρόπους εκφοβισμ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κορίτσια σ μεγαλύτερο βαθμό συγκαλυμμένες ή έμμεσες μορφές εκφοβισμ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κορίτσια θυματοποιούνται από τα αγόρια σε ποσοστό 60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α αγόρια  θυματοποιούνται από τα αγόρια σε ποσοστό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ffffcc"/>
                </a:solidFill>
                <a:latin typeface="Tahoma"/>
              </a:rPr>
              <a:t>Αιτιολογικοί Παράγοντε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χέση γονέω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λάχιστος χρόνος ενασχόλησης με το παιδ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Προβολή βίαιων συμπεριφορών από Μ.Μ.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αθησιακές\νοητικές δυσκολίε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Συναισθηματικός δεσμός με τους γονεί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Γονικοί τύποι συμπεριφοράς (Γ.Τ.Σ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1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Έλλειψη Ενσυναίσθηση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ffffcc"/>
                </a:solidFill>
                <a:latin typeface="Tahoma"/>
              </a:rPr>
              <a:t>Αποτελέσματα έρευνας στην Κρήτη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Θυματοποίησ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Δεν υπάρχουν διαφορές μεταξύ αγοριών –κοριτσιώ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Δηλ, δεν παίζει ρόλο το φύλο στο αν κάποιο άτομο πέσει θύμα συμπεριφορών παρενόχληση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Θύτες: τα αγόρια δηλώνουν περισσότερο από τα κορίτσια πως άσκησαν συμπεριφορές εκφοβισμού ή παρενόχλησης σε άλλα άτομ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α αγόρια αναφέρουν πιο συχνά ότι συμμετέχουν σε επεισόδια παρενόχλησης που υποκινούν τρίτο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 κορίτσια αναφέρουν πιο συχνά ότι συμπάσχουν με το άτομο που υφίσταται παρενόχληση από ότι τα αγόρι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2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α αγόρια συμφωνούν περισσότερο με θετικές στάσεις και πεποιθήσεις ως προς συμπεριφορές παρενόχλησης από ότι τα κορίτσι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.χ. «κάποιες φορές δεν πειράζει να παρενοχλούμε τους άλλους», «είναι καλό να τσακώνονται οι μαθητές μεταξύ του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ffffcc"/>
                </a:solidFill>
                <a:latin typeface="Tahoma"/>
              </a:rPr>
              <a:t>Αποτελέσματα </a:t>
            </a:r>
            <a:r>
              <a:rPr b="0" lang="el-GR" sz="34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l-GR" sz="4200" spc="-1" strike="noStrike">
                <a:solidFill>
                  <a:srgbClr val="ffffcc"/>
                </a:solidFill>
                <a:latin typeface="Tahoma"/>
              </a:rPr>
              <a:t>Αγόρια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όσο μικρότερη η ενσυναίσθηση των αγοριών τόσο μεγαλύτερη είναι η πιθανότητα εκδήλωσης συμπεριφορών εκφοβισμού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όσο μικρότερη η ενσυναίσθηση των αγοριών τόσο μεγαλύτερη είναι η πιθανότητα να πέσουν θύματα συμπεριφορών εκφοβισμού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όσο μικρότερη η ενσυναίσθηση των αγοριών τόσο μεγαλύτερη είναι η πιθανότητα να παρουσιάσουν ριψοκίνδυνες συμπεριφορέ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Tahoma"/>
              </a:rPr>
              <a:t>βρέθηκε σημαντική συσχέτιση μεταξύ θυματοποίησης με άσχημη ψυχολογική κατάσταση (π.χ. αισθήματα λύπης, μοναξιάς, απαισιοδοξίας για το μέλλον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ffffcc"/>
                </a:solidFill>
                <a:latin typeface="Tahoma"/>
              </a:rPr>
              <a:t>ΟΡΙΣΜΟΣ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ffff"/>
                </a:solidFill>
                <a:uFillTx/>
                <a:latin typeface="Tahoma"/>
              </a:rPr>
              <a:t>Εκφοβισμό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«Η διαρκής και επαναλαμβανόμενη έκθεση του ατόμου για μεγάλα χρονικά διαστήματα σε </a:t>
            </a: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αρνητικές πράξεις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ενός ή περισσότερων προσώπω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Arial"/>
              </a:rPr>
              <a:t>→ </a:t>
            </a:r>
            <a:r>
              <a:rPr b="0" i="1" lang="el-GR" sz="2000" spc="-1" strike="noStrike">
                <a:solidFill>
                  <a:srgbClr val="ffffff"/>
                </a:solidFill>
                <a:latin typeface="Tahoma"/>
              </a:rPr>
              <a:t>αρνητική πράξη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: όταν κάποιος προσπαθεί να επιβληθεί, να τραυματίσει ή να προκαλέσει δυσφορία σε κάποιο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weus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4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διαρκής και συστηματική κακοποίηση του άλλου, η οποία μπορεί να περιλαμβάνει τη χρήση λεκτικής ή και φυσικής βίας ή και των δυο μορφών επιθετικής συμπεριφοράς, με σκοπό την πρόκληση ψυχικού και σωματικού πόνου, αισθήματος αδυναμίας κα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πόγνωση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ον άλλ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cc"/>
                </a:solidFill>
                <a:latin typeface="Tahoma"/>
              </a:rPr>
              <a:t>ΠΡΟΤΑΣΕΙΣ ΣΕ ΣΧΕΣΗ ΜΕ ΤΙΣ ΠΑΡΕΜΒΑΣΕΙΣ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ΛΙΣΤΙΚΕΣ ΠΑΡΕΜΒΑ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λεγχο σχολικού χώρου /Ανάπτυξη στρατηγικών /προγραμμάτω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bull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αρεμβάσεις σε όλες τις ομάδες παιδιών (παιδιά-θύματα, παιδιά-θύτες, παιδιά-μάρτυρε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ινητοποίηση του σχολε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αρεμβάσεις σε σχέση με τις οικογένειες θυτών και θυμά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μβουλευτική υποστήριξη γονέων και παιδιών-θυμά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ημαντικότητα ομαδικής διεπιστημονικής συνεργασίας (ψυχολόγου-εκπαιδευτικών-γονέων-ειδικώνν παιδαγωγώ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ffffcc"/>
                </a:solidFill>
                <a:latin typeface="Tahoma"/>
              </a:rPr>
              <a:t>ΠΑΡΕΜΒΑΣΕΙΣ ΣΕ ΣΧΕΣΗ ΜΕ ΤΗΝ ΣΧΟΛΙΚΗ ΠΡΑΓΜΑΤΙΚΟΤΗΤΑ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χνή υποτίμηση του φαινομένου από την πλευρά του σχολεί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υσιαστικός ρόλος του δασκάλου στην ταυτοποίηση /εντοπισμό και ανάδειξη του φαινόμεν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στήνεται η δυναμική /αποφασιστική λεκτική παρέμβαση στην τάξη (σύντομη /σαφής /απειλητική) για να νοιώσουν τα παιδιά-θύτες ότι το σχολείο δεν αδιαφορεί και υπερασπίζεται τα θύμα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 την επανάληψη του φαινομένου και ανάλογα την σοβαρότητα (έκταση /ένταση /επιπτώσεις) ενημερώνεται η διεύθυνση /καλούνται οι γονεί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μπλοκή όλων των εκπαιδευτικών και της διεύθυνσης στη διαχείριση του φαινομέν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300" spc="-1" strike="noStrike">
                <a:solidFill>
                  <a:srgbClr val="ffffcc"/>
                </a:solidFill>
                <a:latin typeface="Tahoma"/>
              </a:rPr>
              <a:t>ΠΑΡΕΜΒΑΣΕΙΣ ΣΕ ΣΧΕΣΗ ΜΕ ΤΗΝ ΣΧΟΛΙΚΗ ΠΡΑΓΜΑΤΙΚΟΤΗΤΑ (συν.)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νημέρωση από ειδικό στο σχολείο (εάν χρειαστεί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στήνεται η συνεργασία με ειδικό για τα βήματα που πρέπει να ακολουθηθούν και για τη διαχείριση της επαφής με τους γονείς των παιδιών-θυτών και των παιδιών-θυμά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στήνεται η ατομική επαφή ειδικού-παιδι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νθαρρύνονται τα παιδιά να αναφέρουν παρόμοια περιστατικά (η ανωνυμία τους διασφαλίζεται, ενώ επεξηγείται ότι δεν πρόκειται για «κάρφωμα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ξήγηση για τις συνέπειες του φαινομένου και για τους τρόπους παρέμβα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νθάρρυνση των θυμάτων να αναφέρουν το γεγον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πομυθοποίηση του δράστ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ορφ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έ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ς εκφοβισμο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ύ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ahoma"/>
              </a:rPr>
              <a:t>Σωματικός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χτυπήματ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φτύσιμ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πρώξιμ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λωτσι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ανδαλισμ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λέψιμ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ωματικές πράξεις που ταπεινώνου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πειλή με όπλ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ίαιη είσπραξη χρηματικού ποσο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η δίκαιο παιχνίδι με κόλπ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ορφ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έ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ς εκφοβισμο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ύ </a:t>
            </a:r>
            <a:r>
              <a:rPr b="1" lang="el-GR" sz="3400" spc="-1" strike="noStrike">
                <a:solidFill>
                  <a:srgbClr val="ffffcc"/>
                </a:solidFill>
                <a:latin typeface="Tahoma"/>
              </a:rPr>
              <a:t>(συν)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Λεκτικός</a:t>
            </a: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ρνητικά σχόλια ή πειράγματα για την εμφάνιση, το ντύσιμο, τις πράξεις του ατόμο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ουτσομπολιά ή διάδοση φημ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 ντρόπιασμα ή η δημόσια διαπόμπευ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η αποξένωση από την ομάδ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βρισι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ημόσιος χλευασμό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πειλή για δημοσίευση προσωπικών πληροφοριώ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αρενόχληση με τηλεφωνήματα, e-mail, απειλητικά γράμματα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berbully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ορφ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έ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ς εκφοβισμο</a:t>
            </a:r>
            <a:r>
              <a:rPr b="1" lang="el-GR" sz="4200" spc="-1" strike="noStrike">
                <a:solidFill>
                  <a:srgbClr val="ffffcc"/>
                </a:solidFill>
                <a:latin typeface="Tahoma"/>
              </a:rPr>
              <a:t>ύ </a:t>
            </a:r>
            <a:r>
              <a:rPr b="1" lang="el-GR" sz="3400" spc="-1" strike="noStrike">
                <a:solidFill>
                  <a:srgbClr val="ffffcc"/>
                </a:solidFill>
                <a:latin typeface="Tahoma"/>
              </a:rPr>
              <a:t>(συν)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ahoma"/>
              </a:rPr>
              <a:t>Συναισθηματικός</a:t>
            </a: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- απόρριψη /εκτοπισμός /συστηματικός αποκλεισμός από την ομάδ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- τρομοκρατί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- ντρόπιασμ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- ρατσιστικά σχόλι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ahoma"/>
              </a:rPr>
              <a:t>Σεξουαλικός</a:t>
            </a: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εξουαλική κακοποίη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εξουαλικά υπονοούμεν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αρακολούθηση ιδιωτικής ζωής του θύματο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ffffcc"/>
                </a:solidFill>
                <a:latin typeface="Tahoma"/>
              </a:rPr>
              <a:t>Χαρακτηριστικά του φαινομένο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ο κίνητρο της πράξης είναι η ενόχληση  ή ακόμα και η πρόκληση πόνου μια η προφανώς η ικανοποίηση που απολαμβάνει από αυτή την κατάσταση ο δράστη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συμπεριφορά λαμβάνει χώρα σε τακτά χρονικά διαστήματ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α θύματα είναι συνήθως ίδι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Υπάρχει μια άνιση αντιπαράθεση καθώς ο δράστης υπερέχει σε δύναμη (λόγω σωματικής /αριθμητικής /ηλικιακής υπεροχής) έναντι του θύματο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Σχεδόν 160.000 παιδιά χάνουν το σχολείο τους κάθε μέρα από φόβο μήπως γίνουν θύματα επίθεσης από άλλους μαθητέ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Περίπου το 7% των 8χρονων μαθητών μένουν σπίτι τουλάχιστον μια φορά το μήνα εξαιτίας των εκφοβιστών του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Τα παιδιά εκφοβιστές έχουν ¼ πιθανότητες να οδηγηθούν στη διάπραξη εγκλήματος μέχρι την ηλικία των 30 ετώ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o Clinic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, 200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cc"/>
                </a:solidFill>
                <a:latin typeface="Tahoma"/>
              </a:rPr>
              <a:t>Εμφάνιση του φαινομένου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Από 11,3% στην Φιλανδία (</a:t>
            </a:r>
            <a:r>
              <a:rPr b="0" lang="en-GB" sz="2100" spc="-1" strike="noStrike">
                <a:solidFill>
                  <a:srgbClr val="ffffff"/>
                </a:solidFill>
                <a:latin typeface="Tahoma"/>
              </a:rPr>
              <a:t>Olafsen &amp; Vimero, 2000) 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έως 49,8% στην Ιρλανδία (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ake et al., 2003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 u="sng">
                <a:solidFill>
                  <a:srgbClr val="ffffff"/>
                </a:solidFill>
                <a:uFillTx/>
                <a:latin typeface="Tahoma"/>
              </a:rPr>
              <a:t>Ελλάδα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: 14,7% μία ή περισσότερες φορές την εβδομάδα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GB" sz="2100" spc="-1" strike="noStrike">
                <a:solidFill>
                  <a:srgbClr val="ffffff"/>
                </a:solidFill>
                <a:latin typeface="Tahoma"/>
              </a:rPr>
              <a:t>Pateraki &amp; Houndoumadi, 2001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Το ποσοστό των παιδιών-θυμάτων εκφοβισμού μειώνεται σταθερά με την ηλικία (Olweus, 1993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Από 18% στην ηλικία των 8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 9% στην ηλικία των 16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ourander et al., 2001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Η κορύφωση στην εμφάνιση του φαινομένου του εκφοβισμού και της θυματοποίησης είναι κυρίως ανάμεσα στις ηλικίες των 11-13 ετών (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slea &amp; Ress, 2001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o 73% 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έπεσε θύμα έστω και μία φορά στο σχολείο στις ηλικίες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11 – 13 ετών (Griffin &amp; Gross, 2003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ffffff"/>
                </a:solidFill>
                <a:latin typeface="Tahoma"/>
              </a:rPr>
              <a:t>Τα παιδιά με ιδιαιτέρες ανάγκες /ευαισθησίες κινδυνεύουν περισσότερο να πέσουν θύματα στιγματισμού /κακοποίησης /εξοβελισμού, και στο οικογενειακό, και στο σχολικό /κοινωνικό πλαίσιο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Επιπτώσεις στην ψυχική υγεία των θυμάτων</a:t>
            </a:r>
            <a:br>
              <a:rPr sz="38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αμηλή αυτοεκτίμηση (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awker &amp; Boulton,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συναισθήματα μοναξιάς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Mechthild et al.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φτωχές κοινωνικές σχέσεις /σχολική εγκατάλειψ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(Hugh-Jones &amp; Smith, 199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ερισσότερα συμπτώματα άγχους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Slee, 199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περισσότερα συμπτώματα κατάθλιψης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Kumpulainen &amp; Rasanenb, 2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ψυχοσωματικές εκδηλώσεις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(Fekkes et al.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αυτοκτονική συμπεριφορά (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llycid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Rigby, 2000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·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aldry &amp; Winket, 2003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cc"/>
                </a:solidFill>
                <a:latin typeface="Tahoma"/>
              </a:rPr>
              <a:t>Είδη – Χαρακτηριστικά δραστών  </a:t>
            </a:r>
            <a:r>
              <a:rPr b="1" lang="el-GR" sz="29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en-US" sz="2900" spc="-1" strike="noStrike">
                <a:solidFill>
                  <a:srgbClr val="ffffcc"/>
                </a:solidFill>
                <a:latin typeface="Tahoma"/>
              </a:rPr>
              <a:t>bullies</a:t>
            </a:r>
            <a:r>
              <a:rPr b="1" lang="el-GR" sz="29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ΠΙΘΕΤΙΚΟΙ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an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→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Χρήση Φυσικής Βία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ΠΑΘΗΤΙΚΟ- ΕΠΙΘΕΤΙΚΟΙ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y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, 200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Υιοθέτηση προκλητικής συμπεριφοράς με στόχο την κινητοποίηση του θύματος και την παρέμβαση του δράστ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ΔΡΑΣΤΕΣ ΠΡΩΗΝ ΘΥΜΑΤΑ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pelage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othy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ar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,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8:55:14Z</dcterms:created>
  <dc:creator>Emmanuel Pothos</dc:creator>
  <dc:description/>
  <dc:language>en-US</dc:language>
  <cp:lastModifiedBy>lemonaki</cp:lastModifiedBy>
  <dcterms:modified xsi:type="dcterms:W3CDTF">2011-12-19T13:41:39Z</dcterms:modified>
  <cp:revision>57</cp:revision>
  <dc:subject/>
  <dc:title>Εμπειρίες Ψευτοπαλληκαριάς στην παιδική ηλικία και οι επιδράσεις της στην αυτοεκτίμηση και την ψυχοκοινωνική προσαρμογή στην ενήλικη ζωή</dc:title>
</cp:coreProperties>
</file>