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7398-FCF9-499D-A4AC-46710A4F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7DE-B58C-4A37-9A3F-6C23F0DE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339-4C99-4A77-94E2-82AB76DF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FB4-8D84-4C33-84FF-E3563DE7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0522-B1AD-42E7-94CB-70405F73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92AE-A28D-425D-AFC2-5FA8684B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302C-4382-4C24-8DD5-EBE19B0A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4BC0-27DD-4BB0-91A5-34AA87D3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DA81-C598-433B-84DB-4B39E916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6607-AFEF-4BB8-BFFD-419795F8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760A-D289-40ED-B484-141D17FE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EEA-0DE7-4FD3-B6FD-1049DF65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F239-13B0-4035-9700-2F7621CD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6DE2-E34C-4514-AA32-9B3E7EE6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66CE-87F2-4B7F-8309-741E9CB8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EADC-14EA-4AD0-9496-764D49D0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C971-F1C3-4D0A-B20B-4F72CA87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5BC66-5E41-4C17-8535-27513621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88997-FC77-4A52-B771-26257AC0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1DB28-BF07-4930-94EA-E9AA4518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C48B4-04AA-4768-A77E-4195B633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21C42-724C-4268-A3E3-BC0D466F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45E9-B25C-4BA1-AF82-C5933254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5F047-1ECC-4DEE-8905-1E8E6463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6CED7-C49A-4D38-94B6-2FF2AB75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01AD9-03D9-4709-B1A3-87EB245D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542F2-78AD-466C-8BA2-BD6E11DA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18671-EA3A-43D2-9DB1-DD2D8574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972BD-5643-40F6-AA9A-73A359F5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F01A7-C09B-4E15-B45E-F54B0269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26FF4-F8B2-4B6F-B0DE-513A71B2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F6F18-C55B-40A5-AC0F-1DB484BC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58DFA-B1AD-4A7E-9D01-3F8179D2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69AA-E817-4E66-AA05-1CEABFE0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9C28A-4FDD-4DDF-9518-3CCE7FBF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E9A30-C555-4215-BBF4-4CB968B5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8A5F6-F14F-4915-8E9A-8977E222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D62E5-14ED-4459-809A-E97ABCBF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7CF53-B49B-4AD1-9BCB-8E3308A8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51CA8-C39C-400D-9466-C94AD261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0D2FE-A3B6-4CED-AE00-DEE86016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4DA75-DB7A-453D-95CD-B57268C4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47670-15C8-4A19-BDD6-EEB3DDBE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0FE02-C282-4A2F-A225-80D3D3E9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3C23-5103-4262-8AE1-6CA24C0C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76A6A-9033-4350-9C4E-D9F6D6F6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29CF7-B3F8-4F9D-885C-F5A88F95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9B003-D877-41E3-841B-E088EEB3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8A762-7AC8-44F9-AC2E-DFD19B63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0BF32-9370-49EB-A24B-345445F2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584B3-0DA7-4AF2-867E-F1EA86B0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15B84-EF4B-4660-AA60-89F44901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1FA84-76B0-4C4F-8706-F050ADF8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50E40-2369-4153-BC86-2D1C8560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3932C-5135-4E46-B188-2E2BB255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2C6-B2EE-47D9-A02E-DC06FE66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ADE89-30AB-4A26-982B-B49AD0C3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22B4C-F1B5-4684-9348-EE5BF502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7E286-392F-491E-A781-9D207145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06D19-E2E5-405E-855E-508F53EC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B5904-CF2F-46EE-B0F6-89BFD63E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26A68-89AB-4A78-B1A1-9C081D8A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305F1-9F7E-4C6B-82A0-D02935E6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EA981-A044-4AE9-A6F2-85B89C97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A1A66-BCBA-4805-AF53-F4BA5A8E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D533F-7DAC-4F78-BA49-159EF7E4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06E-530D-421C-8BDA-E5D908F2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40B10-20EB-4FF3-899E-DA33D843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2183A-7741-48AC-A7F3-229E41EB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F222A-EE70-4161-9FBD-E219968B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94120-6E83-4A56-9A7F-72A0C56D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FFA86-7D7D-4EA9-8902-A7C1B343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C0726-C320-49FF-988D-B0B8DE4A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5373F-EAA9-4CFC-83A9-34C9EF90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3B7A5-B487-473D-8751-586DB5A2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6954F-B2C5-44BB-AE0B-49C76A5D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C58E2-102D-4FF2-A605-60B5B611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E81-73CE-4AA8-9BE6-AF43F31F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13678-C6C4-48F3-AB6F-BB3E0387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1D7CC-81DD-45D0-8EE9-D1403EBF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2E9CC-C6EA-4B2D-8FE7-0CCC6C35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77B93-42D4-4CD5-8282-4DF89C50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54939-5830-4532-9ECC-34CCBE13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720A-8F52-4CB0-9BD8-8B2B7DD1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704A-C045-4BBD-B065-874A28D586B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1D07-91C1-48B1-B568-AF462AC89EF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132B-E5D2-495F-B123-D17F6E12FE6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AD1C-8FDB-4CEF-B8A8-4283726CB14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E254-88AC-495B-ABAB-7354CDB189B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4EA0-2E20-4148-BD5E-406F61372CA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8543-4B2E-4A68-BB85-AD6FF312BDA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413000"/>
            <a:ext cx="7775640" cy="19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572314"/>
                </a:solidFill>
                <a:latin typeface="Corbel"/>
              </a:rPr>
              <a:t>«Σχολικός Εκφοβισμός (</a:t>
            </a: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bullying</a:t>
            </a:r>
            <a:r>
              <a:rPr b="1" lang="el-GR" sz="2800" spc="-1" strike="noStrike">
                <a:solidFill>
                  <a:srgbClr val="572314"/>
                </a:solidFill>
                <a:latin typeface="Corbel"/>
              </a:rPr>
              <a:t>) και Θυματοποίηση μαθητών από μαθητές: Σύγχρονα Δεδομένα και Αντιμετώπιση του Φαινομένου</a:t>
            </a:r>
            <a:r>
              <a:rPr b="1" lang="el-GR" sz="2800" spc="-1" strike="noStrike">
                <a:solidFill>
                  <a:srgbClr val="572314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572314"/>
                </a:solidFill>
                <a:latin typeface="Corbel"/>
              </a:rPr>
              <a:t>από τους Γονείς»</a:t>
            </a:r>
            <a:r>
              <a:rPr b="1" lang="el-GR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042560" y="3905280"/>
            <a:ext cx="8101080" cy="2952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320e04"/>
                </a:solidFill>
                <a:latin typeface="Corbel"/>
              </a:rPr>
              <a:t>Άκης Γιοβαζολιά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20e04"/>
                </a:solidFill>
                <a:latin typeface="Corbel"/>
              </a:rPr>
              <a:t>Επίκουρος Καθηγητής Συμβουλευτικής Ψυχολογία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20e04"/>
                </a:solidFill>
                <a:latin typeface="Corbel"/>
              </a:rPr>
              <a:t>Τμήμα Ψυχολογία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20e04"/>
                </a:solidFill>
                <a:latin typeface="Corbel"/>
              </a:rPr>
              <a:t>Σχολή Κοινωνικών Επιστημώ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20e04"/>
                </a:solidFill>
                <a:latin typeface="Corbel"/>
              </a:rPr>
              <a:t>Πανεπιστήμιο Κρήτης</a:t>
            </a:r>
            <a:r>
              <a:rPr b="1" lang="el-GR" sz="1800" spc="-1" strike="noStrike" baseline="30000">
                <a:solidFill>
                  <a:srgbClr val="ffffff"/>
                </a:solidFill>
                <a:latin typeface="Corbel"/>
              </a:rPr>
              <a:t> </a:t>
            </a:r>
            <a:r>
              <a:rPr b="1" lang="el-GR" sz="18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Corbel"/>
              </a:rPr>
              <a:t>9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Corbel"/>
              </a:rPr>
              <a:t>ο</a:t>
            </a:r>
            <a:r>
              <a:rPr b="0" i="1" lang="el-GR" sz="1800" spc="-1" strike="noStrike">
                <a:solidFill>
                  <a:srgbClr val="000000"/>
                </a:solidFill>
                <a:latin typeface="Corbel"/>
              </a:rPr>
              <a:t> Δημοτικό Σχολείο Ρεθύμνου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Corbel"/>
              </a:rPr>
              <a:t>14-12-1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2"/>
          <a:stretch/>
        </p:blipFill>
        <p:spPr>
          <a:xfrm>
            <a:off x="8388360" y="115920"/>
            <a:ext cx="6476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Πολύ συχνά ο </a:t>
            </a:r>
            <a:r>
              <a:rPr b="1" i="1" lang="el-GR" sz="2400" spc="-1" strike="noStrike">
                <a:solidFill>
                  <a:srgbClr val="000000"/>
                </a:solidFill>
                <a:latin typeface="Gill Sans MT"/>
              </a:rPr>
              <a:t>κοινωνικός αποκλεισμός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, οι </a:t>
            </a:r>
            <a:r>
              <a:rPr b="1" i="1" lang="el-GR" sz="2400" spc="-1" strike="noStrike">
                <a:solidFill>
                  <a:srgbClr val="000000"/>
                </a:solidFill>
                <a:latin typeface="Gill Sans MT"/>
              </a:rPr>
              <a:t>κοινωνικές ανισότητες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και </a:t>
            </a:r>
            <a:r>
              <a:rPr b="0" i="1" lang="el-GR" sz="2400" spc="-1" strike="noStrike">
                <a:solidFill>
                  <a:srgbClr val="000000"/>
                </a:solidFill>
                <a:latin typeface="Gill Sans MT"/>
              </a:rPr>
              <a:t>η</a:t>
            </a:r>
            <a:r>
              <a:rPr b="1" i="1" lang="el-GR" sz="2400" spc="-1" strike="noStrike">
                <a:solidFill>
                  <a:srgbClr val="000000"/>
                </a:solidFill>
                <a:latin typeface="Gill Sans MT"/>
              </a:rPr>
              <a:t> ματαίωση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συνδέονται με την υιοθέτηση βίαιης συμπεριφοράς από τους αλλοδαπούς μαθητέ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(Αρτινοπούλου, 200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9" name="Title 2" descr=""/>
          <p:cNvPicPr/>
          <p:nvPr/>
        </p:nvPicPr>
        <p:blipFill>
          <a:blip r:embed="rId1"/>
          <a:stretch/>
        </p:blipFill>
        <p:spPr>
          <a:xfrm>
            <a:off x="969840" y="262080"/>
            <a:ext cx="83934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300" spc="-1" strike="noStrike">
                <a:solidFill>
                  <a:srgbClr val="6db2c9"/>
                </a:solidFill>
                <a:latin typeface="Corbel"/>
              </a:rPr>
              <a:t>Χαρακτηριστικά Δραστών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71640" y="1599840"/>
            <a:ext cx="7921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φυσική δύναμη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κυριαρχικές και γοητευτικές προσωπικότητες με υψηλ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χαμηλή αίσθηση αυτοεκτίμηση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έλλειψη συναισθηματικής κατανόησης για τα θύματά του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έλλειψη μεταμέλειας για τις πράξεις τους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διαταραχές ψυχικής υγεία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θύματα ενδοοικογενειακής παραμέλησης η βία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σχολική αποτυχία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300" spc="-1" strike="noStrike">
                <a:solidFill>
                  <a:srgbClr val="6db2c9"/>
                </a:solidFill>
                <a:latin typeface="Corbel"/>
              </a:rPr>
              <a:t>Χαρακτηριστικά Θυμάτων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9144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κοντό ανάστημα, αδύναμα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πιο ήσυχα, προσεκτικά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ανασφαλή και ευαίσθητα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φτωχότερη επικοινωνία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μειωμένες ικανότητες επίλυσης προβλημάτων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1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χαμηλή επίδοση σε αθλητικές-σωματικές δραστηριότητε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νοητικές, φυσικέ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κινητικές ή μαθησιακές δυσκολίες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χαμηλή αυτο-εκτίμηση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mokowski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 &amp;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pasz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, 2005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db2c9"/>
                </a:solidFill>
                <a:latin typeface="Corbel"/>
              </a:rPr>
              <a:t>Εμφάνιση του φαινομένου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26560" y="836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Από 11,3% στην Φιλανδία (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Olafsen &amp; Vimero, 2000)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έως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49,8% στην Ιρλανδία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ke et al., 2003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Corbel"/>
              </a:rPr>
              <a:t>Ελλάδα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: 14,7% μία ή περισσότερες φορές την εβδομάδα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ateraki &amp; Houndoumadi, 200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Corbel"/>
              </a:rPr>
              <a:t>Ελλάδα (Κρήτη)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: 16,1% μία ή περισσότερες φορές την εβδομάδα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(Κουρκούτας &amp; Γιοβαζολιάς, 2006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Το κορύφωμα στον εκφοβισμό και τη θυματοποίηση είναι κυρίως ανάμεσα στις ηλικίες των 11-1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 ετών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lea &amp; Ress, 200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6db2c9"/>
                </a:solidFill>
                <a:latin typeface="Corbel"/>
              </a:rPr>
              <a:t>	</a:t>
            </a:r>
            <a:r>
              <a:rPr b="0" lang="el-GR" sz="3600" spc="-1" strike="noStrike">
                <a:solidFill>
                  <a:srgbClr val="6db2c9"/>
                </a:solidFill>
                <a:latin typeface="Corbel"/>
              </a:rPr>
              <a:t>	</a:t>
            </a:r>
            <a:r>
              <a:rPr b="0" lang="el-GR" sz="3600" spc="-1" strike="noStrike">
                <a:solidFill>
                  <a:srgbClr val="6db2c9"/>
                </a:solidFill>
                <a:latin typeface="Corbel"/>
              </a:rPr>
              <a:t>Μύθοι για τον εκφοβισμό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14400" y="1557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orbel"/>
              </a:rPr>
              <a:t>Μόνο τα αγόρια εκφοβίζουν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7780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891a7"/>
                </a:solidFill>
                <a:latin typeface="Corbel"/>
              </a:rPr>
              <a:t>Λάθος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σωματικός, λεκτικός και σχεσιακός εκφοβισμός συμβαίνει ανάμεσα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Corbel"/>
              </a:rPr>
              <a:t>και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 στα κορίτσια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nley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 &amp;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ona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, 1998 ·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yne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  και συν., 2006 ∙ Rigby, 2008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2. Τα παιδιά μεγαλώνοντας ωριμάζουν και ξεπερνούν την εκφοβιστική συμπεριφορά.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71040" y="1844640"/>
            <a:ext cx="8472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891a7"/>
                </a:solidFill>
                <a:latin typeface="Corbel"/>
              </a:rPr>
              <a:t>Λάθος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Τα  παιδιά που θεωρούνται ότι είναι ‘χρόνιοι’ δράστες είναι πιθανό να επιμείνουν σε τέτοιου είδους επιθετικές συμπεριφορές και μέχρι και την ενηλικίωσή τους (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igby, 1996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3. Το να μαρτυρήσεις έναν δράστη απλά θα χειροτερέψει την κατάσταση</a:t>
            </a:r>
            <a:br>
              <a:rPr sz="40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71640" y="1196640"/>
            <a:ext cx="7921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Gill Sans MT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891a7"/>
                </a:solidFill>
                <a:latin typeface="Corbel"/>
              </a:rPr>
              <a:t>Λάθος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Corbel"/>
              </a:rPr>
              <a:t>Οι έρευνες δείχνουν ότι τα παιδιά που αναφέρουν τη θυματοποίησή τους σε κάποιον </a:t>
            </a:r>
            <a:r>
              <a:rPr b="1" lang="el-GR" sz="2700" spc="-1" strike="noStrike">
                <a:solidFill>
                  <a:srgbClr val="000000"/>
                </a:solidFill>
                <a:latin typeface="Corbel"/>
              </a:rPr>
              <a:t>ενήλικα</a:t>
            </a:r>
            <a:r>
              <a:rPr b="0" lang="el-GR" sz="2700" spc="-1" strike="noStrike">
                <a:solidFill>
                  <a:srgbClr val="000000"/>
                </a:solidFill>
                <a:latin typeface="Corbel"/>
              </a:rPr>
              <a:t>, έχουν μεγαλύτερες πιθανότητες να σταματήσουν να θυματοποιούνται από όσα δεν την αναφέρουν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Rigby</a:t>
            </a:r>
            <a:r>
              <a:rPr b="0" lang="el-GR" sz="2700" spc="-1" strike="noStrike">
                <a:solidFill>
                  <a:srgbClr val="000000"/>
                </a:solidFill>
                <a:latin typeface="Corbel"/>
              </a:rPr>
              <a:t>, 2000 ∙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unter</a:t>
            </a:r>
            <a:r>
              <a:rPr b="0" lang="el-GR" sz="2700" spc="-1" strike="noStrike">
                <a:solidFill>
                  <a:srgbClr val="000000"/>
                </a:solidFill>
                <a:latin typeface="Corbel"/>
              </a:rPr>
              <a:t> και συν., 2004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34160" indent="-37116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434160" indent="-37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4. Οι δάσκαλοι συχνά επεμβαίνουν για να σταματήσει ο εκφοβισμός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71640" y="1628640"/>
            <a:ext cx="840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891a7"/>
                </a:solidFill>
                <a:latin typeface="Corbel"/>
              </a:rPr>
              <a:t>Λάθος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Ο εκφοβισμός είναι μια ‘</a:t>
            </a:r>
            <a:r>
              <a:rPr b="0" lang="el-GR" sz="2600" spc="-1" strike="noStrike" u="sng">
                <a:solidFill>
                  <a:srgbClr val="000000"/>
                </a:solidFill>
                <a:uFillTx/>
                <a:latin typeface="Corbel"/>
              </a:rPr>
              <a:t>υπόγεια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’ δραστηριότητα την οποία συχνά δεν αντιλαμβάνονται οι ενήλικες. Οι δάσκαλοι επεμβαίνουν μόνο στο </a:t>
            </a:r>
            <a:r>
              <a:rPr b="1" lang="el-GR" sz="2600" spc="-1" strike="noStrike">
                <a:solidFill>
                  <a:srgbClr val="000000"/>
                </a:solidFill>
                <a:latin typeface="Corbel"/>
              </a:rPr>
              <a:t>14%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 των επεισοδίων εκφοβισμού μέσα στην τάξη και μόλις στο </a:t>
            </a:r>
            <a:r>
              <a:rPr b="1" lang="el-GR" sz="2600" spc="-1" strike="noStrike">
                <a:solidFill>
                  <a:srgbClr val="000000"/>
                </a:solidFill>
                <a:latin typeface="Corbel"/>
              </a:rPr>
              <a:t>4%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 των επεισοδίων εκφοβισμού στην αυλή του σχολείου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others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 &amp;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lbert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, 2004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5. Δεν μπορεί να γίνει τίποτα για να σταματήσει ο εκφοβισμός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14400" y="1700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891a7"/>
                </a:solidFill>
                <a:latin typeface="Corbel"/>
              </a:rPr>
              <a:t>Λάθος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Διάφορες επεμβάσεις που βασίζονται σε επίπεδο σχολείου, γονείς, κοινότητα, αναφέρεται παγκοσμίως ότι έχουν καταφέρει να μειωθεί ο εκφοβισμός από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15% μέχρι 50%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O’ Toole &amp; Plunkett, 2004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6. Οι γονείς συνήθως γνωρίζουν ότι τα παιδιά τους εκφοβίζουν τα υπόλοιπα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99640" y="1700280"/>
            <a:ext cx="8472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891a7"/>
                </a:solidFill>
                <a:latin typeface="Corbel"/>
              </a:rPr>
              <a:t>Λάθος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Οι γονείς συχνά </a:t>
            </a:r>
            <a:r>
              <a:rPr b="1" lang="el-GR" sz="2600" spc="-1" strike="noStrike" u="sng">
                <a:solidFill>
                  <a:srgbClr val="000000"/>
                </a:solidFill>
                <a:uFillTx/>
                <a:latin typeface="Corbel"/>
              </a:rPr>
              <a:t>δεν γνωρίζουν</a:t>
            </a:r>
            <a:r>
              <a:rPr b="1" lang="el-GR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την έκταση του εκφοβισμού και της θυματοποίησης των παιδιών τους. Επιπλέον, οι γονείς συνήθως </a:t>
            </a:r>
            <a:r>
              <a:rPr b="1" lang="el-GR" sz="2600" spc="-1" strike="noStrike" u="sng">
                <a:solidFill>
                  <a:srgbClr val="000000"/>
                </a:solidFill>
                <a:uFillTx/>
                <a:latin typeface="Corbel"/>
              </a:rPr>
              <a:t>δεν συζητάνε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 το θέμα του εκφοβισμού με τα παιδιά του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igby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, 2000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4991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572314"/>
                </a:solidFill>
                <a:latin typeface="Corbel"/>
              </a:rPr>
              <a:t>ΟΡΙΣΜΟΣ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00000" y="1052280"/>
            <a:ext cx="82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Corbel"/>
              </a:rPr>
              <a:t>Εκφοβισμός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27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«Η διαρκής και επαναλαμβανόμενη έκθεση του ατόμου για μεγάλα χρονικά διαστήματα σε </a:t>
            </a:r>
            <a:r>
              <a:rPr b="0" i="1" lang="el-GR" sz="2400" spc="-1" strike="noStrike">
                <a:solidFill>
                  <a:srgbClr val="000000"/>
                </a:solidFill>
                <a:latin typeface="Corbel"/>
              </a:rPr>
              <a:t>αρνητικές πράξεις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 ενός ή περισσότερων προσώπων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27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271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  <a:ea typeface="Arial"/>
              </a:rPr>
              <a:t>→ </a:t>
            </a:r>
            <a:r>
              <a:rPr b="0" i="1" lang="el-GR" sz="2400" spc="-1" strike="noStrike">
                <a:solidFill>
                  <a:srgbClr val="000000"/>
                </a:solidFill>
                <a:latin typeface="Corbel"/>
              </a:rPr>
              <a:t>αρνητική πράξη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: όταν κάποιος προσπαθεί να επιβληθεί, να τραυματίσει ή να προκαλέσει δυσφορία σε κάποιον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271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lweus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994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271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271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Corbel"/>
              </a:rPr>
              <a:t>Στόχος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: Η επιβεβαίωση της δύναμης του δράστη μέσω της υιοθέτησης κυριαρχικής συμπεριφοράς η οποία περιλαμβάνει τη χρήση τόσο λεκτικής όσο και φυσικής βία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300" spc="-1" strike="noStrike">
                <a:solidFill>
                  <a:srgbClr val="572314"/>
                </a:solidFill>
                <a:latin typeface="Corbel"/>
              </a:rPr>
              <a:t>Αιτιολογικοί Παράγοντες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187280" y="155700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Corbel"/>
              </a:rPr>
              <a:t>Σχέση γονέων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Corbel"/>
              </a:rPr>
              <a:t>Ελάχιστος χρόνος ενασχόλησης με το παιδί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Corbel"/>
              </a:rPr>
              <a:t>Προβολή βίαιων συμπεριφορών από Μ.Μ.Ε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Corbel"/>
              </a:rPr>
              <a:t>Συναισθηματικός δεσμός με τους γονείς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Corbel"/>
              </a:rPr>
              <a:t>Γονικοί τύποι συμπεριφοράς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Corbel"/>
              </a:rPr>
              <a:t>Προσωπικότητα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Corbel"/>
              </a:rPr>
              <a:t>Σχολικό Κλίμα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l-GR" sz="2300" spc="-1" strike="noStrike">
                <a:solidFill>
                  <a:srgbClr val="572314"/>
                </a:solidFill>
                <a:latin typeface="Corbel"/>
              </a:rPr>
              <a:t>Επιπτώσεις στην ψυχική υγεία των θυμάτων</a:t>
            </a:r>
            <a:br>
              <a:rPr sz="2900"/>
            </a:br>
            <a:endParaRPr b="0" lang="en-US" sz="2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25200" y="1483920"/>
            <a:ext cx="821844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χαμηλή αυτοεκτίμηση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awker &amp; Boulton, 2000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συναισθήματα μοναξιάς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(Mechthild et al., 2004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φτωχές κοινωνικές σχέσεις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(Hugh-Jones &amp; Smith, 1999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περισσότερα συμπτώματα άγχους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(Slee, 1994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περισσότερα συμπτώματα κατάθλιψης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iovazolias &amp; Pandi, 2008;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Kumpulainen &amp; Rasanenb, 2000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ψυχοσωματικές εκδηλώσεις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(Fekkes et al., 2004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αυτοκτονική συμπεριφορά (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ullycide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igby, 2000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 ·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Baldry &amp; Winket, 2003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0000"/>
                </a:solidFill>
                <a:latin typeface="Corbel"/>
              </a:rPr>
              <a:t>Σημάδια Κινδύνου: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14400" y="13413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Γίνεται επιθετικό, παράλογο, ανήσυχο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Εκφοβίζει ή θυματοποιεί άλλα παιδιά ή αδέρφια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Σταματά να τρώει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Φοβάται να χρησιμοποιήσει το κινητό ή το ηλεκτρονικό του ταχυδρομείο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Φοβάται να περπατήσει μόνο στο σχολείο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Αρχίζει να τραυλίζει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Απειλεί με αυτοκτονία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Κλαίει πριν κοιμηθεί/έχει εφιάλτες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Το πρωί νιώθει άρρωστο/δεν θέλει να πάει σχολείο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900000" y="1483920"/>
            <a:ext cx="83296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Πέφτει η σχολική του επίδοση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Επιστρέφει με σχισμένα ρούχα, κατεστραμμένα βιβλία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Του λείπουν πράγματα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Ζητά ή κλέβει χρήματα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(για να τα δώσει στον δράστη-εκβιαστή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Έχει ανεξήγητες μελανιές-χτυπήματα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Corbel"/>
              </a:rPr>
              <a:t>Δίνει απίθανες εξηγήσεις για όλα τα παραπάνω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300" spc="-1" strike="noStrike">
                <a:solidFill>
                  <a:srgbClr val="572314"/>
                </a:solidFill>
                <a:latin typeface="Corbel"/>
              </a:rPr>
              <a:t>Αντιμετώπιση του Φαινομένου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Πρόληψη-παρέμβαση σε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*θύμα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* δράστη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* παρατηρητές (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ystand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* εκπαιδευτικού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orbel"/>
              </a:rPr>
              <a:t>* γονεί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Right Arrow 4"/>
          <p:cNvSpPr/>
          <p:nvPr/>
        </p:nvSpPr>
        <p:spPr>
          <a:xfrm>
            <a:off x="2916360" y="3068640"/>
            <a:ext cx="977760" cy="3398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Corbel"/>
              </a:rPr>
              <a:t>Υπάρχουν κι άλλοι εκεί όταν συμβαίνει...;;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2" name="Picture 7" descr="I:\ALL DATA\AKIS-DOCUMENTS\UNIV. OF CRETE\Bullying\bully pics\42-16935647.jpg"/>
          <p:cNvPicPr/>
          <p:nvPr/>
        </p:nvPicPr>
        <p:blipFill>
          <a:blip r:embed="rId1"/>
          <a:stretch/>
        </p:blipFill>
        <p:spPr>
          <a:xfrm>
            <a:off x="1571760" y="1285920"/>
            <a:ext cx="585792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4" name="Picture 2" descr="I:\ALL DATA\AKIS-DOCUMENTS\UNIV. OF CRETE\Bullying\bully pics\42-16935679.jpg"/>
          <p:cNvPicPr/>
          <p:nvPr/>
        </p:nvPicPr>
        <p:blipFill>
          <a:blip r:embed="rId1"/>
          <a:stretch/>
        </p:blipFill>
        <p:spPr>
          <a:xfrm>
            <a:off x="1643040" y="1285920"/>
            <a:ext cx="550080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6" name="Picture 2" descr="I:\ALL DATA\AKIS-DOCUMENTS\UNIV. OF CRETE\Bullying\bully pics\42-16935618.jpg"/>
          <p:cNvPicPr/>
          <p:nvPr/>
        </p:nvPicPr>
        <p:blipFill>
          <a:blip r:embed="rId1"/>
          <a:stretch/>
        </p:blipFill>
        <p:spPr>
          <a:xfrm>
            <a:off x="1571760" y="1285920"/>
            <a:ext cx="578628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8" name="Picture 2" descr="I:\ALL DATA\AKIS-DOCUMENTS\UNIV. OF CRETE\Bullying\bully pics\1644065.jpg"/>
          <p:cNvPicPr/>
          <p:nvPr/>
        </p:nvPicPr>
        <p:blipFill>
          <a:blip r:embed="rId1"/>
          <a:stretch/>
        </p:blipFill>
        <p:spPr>
          <a:xfrm>
            <a:off x="1571760" y="1214280"/>
            <a:ext cx="58579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«Η σκόπιμα καταστροφική, επιθετική συμπεριφορά ενός </a:t>
            </a:r>
            <a:r>
              <a:rPr b="1" lang="el-GR" sz="2600" spc="-1" strike="noStrike">
                <a:solidFill>
                  <a:srgbClr val="000000"/>
                </a:solidFill>
                <a:latin typeface="Corbel"/>
              </a:rPr>
              <a:t>πιο ισχυρού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 ατόμου ή ομάδας η οποία κατευθύνεται επανειλημμένα προς ένα άτομο </a:t>
            </a:r>
            <a:r>
              <a:rPr b="1" lang="el-GR" sz="2600" spc="-1" strike="noStrike">
                <a:solidFill>
                  <a:srgbClr val="000000"/>
                </a:solidFill>
                <a:latin typeface="Corbel"/>
              </a:rPr>
              <a:t>λιγότερο ισχυρό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, συνήθως χωρίς καμιά πρόκληση»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arris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, 2004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0" name="Picture 2" descr="I:\ALL DATA\AKIS-DOCUMENTS\UNIV. OF CRETE\Bullying\bully pics\1209185346hUlyA9.jpg"/>
          <p:cNvPicPr/>
          <p:nvPr/>
        </p:nvPicPr>
        <p:blipFill>
          <a:blip r:embed="rId1"/>
          <a:stretch/>
        </p:blipFill>
        <p:spPr>
          <a:xfrm>
            <a:off x="1643040" y="1285920"/>
            <a:ext cx="571500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2" name="Picture 2" descr="I:\ALL DATA\AKIS-DOCUMENTS\UNIV. OF CRETE\Bullying\bully pics\1209197797CQ3gcg.jpg"/>
          <p:cNvPicPr/>
          <p:nvPr/>
        </p:nvPicPr>
        <p:blipFill>
          <a:blip r:embed="rId1"/>
          <a:stretch/>
        </p:blipFill>
        <p:spPr>
          <a:xfrm>
            <a:off x="1643040" y="1285920"/>
            <a:ext cx="571500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4" name="Picture 2" descr="I:\ALL DATA\AKIS-DOCUMENTS\UNIV. OF CRETE\Bullying\bully pics\PRP034.jpg"/>
          <p:cNvPicPr/>
          <p:nvPr/>
        </p:nvPicPr>
        <p:blipFill>
          <a:blip r:embed="rId1"/>
          <a:stretch/>
        </p:blipFill>
        <p:spPr>
          <a:xfrm>
            <a:off x="2124000" y="1052640"/>
            <a:ext cx="6000840" cy="50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497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900" spc="-1" strike="noStrike">
                <a:solidFill>
                  <a:srgbClr val="572314"/>
                </a:solidFill>
                <a:latin typeface="Corbel"/>
              </a:rPr>
              <a:t>Οδηγίες για γονείς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71640" y="980640"/>
            <a:ext cx="75088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rbel"/>
              </a:rPr>
              <a:t>Παρατηρείστε αν το παιδί σας δείχνει σημάδια ότι θυματοποιείται από άλλα παιδιά ή αν λειτουργεί ως δράστης. Μην το αμελήσετε - επικοινωνήστε αμέσως με το σχολείο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4012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rbel"/>
              </a:rPr>
              <a:t>Αναπτύξτε μια ζεστή και φιλική σχέση με το παιδί. Να είστε κοντά του και να επιδιώκετε τη συζήτηση μαζί του-από μόνο του μπορεί να μην σας αναφέρει τίποτα για το θέμα αυτό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4012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rbel"/>
              </a:rPr>
              <a:t>Διδάξτε του να κοιτά στα μάτια τον εκφοβιστή, να λέει δυνατά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l-GR" sz="2000" spc="-1" strike="noStrike">
                <a:solidFill>
                  <a:srgbClr val="000000"/>
                </a:solidFill>
                <a:latin typeface="Corbel"/>
              </a:rPr>
              <a:t>ΑΣΕ ΜΕ ΗΣΥΧΟ!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1" lang="el-GR" sz="2000" spc="-1" strike="noStrike">
                <a:solidFill>
                  <a:srgbClr val="000000"/>
                </a:solidFill>
                <a:latin typeface="Corbel"/>
              </a:rPr>
              <a:t> ή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l-GR" sz="2000" spc="-1" strike="noStrike">
                <a:solidFill>
                  <a:srgbClr val="000000"/>
                </a:solidFill>
                <a:latin typeface="Corbel"/>
              </a:rPr>
              <a:t>ΚΟΙΤΑ ΤΗ ΔΟΥΛΕΙΑ ΣΟΥ!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1" lang="el-GR" sz="2000" spc="-1" strike="noStrike">
                <a:solidFill>
                  <a:srgbClr val="000000"/>
                </a:solidFill>
                <a:latin typeface="Corbel"/>
              </a:rPr>
              <a:t>, να φεύγει και να το λέει σε κάποιον ενήλικα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4012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rbel"/>
              </a:rPr>
              <a:t>Καθησυχάστε τα παιδί ότι δε φταίει αυτό αν του επιτέθηκαν κι ότι δεν είναι δικό του λάθος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4012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rbel"/>
              </a:rPr>
              <a:t>Μιλήστε, με συγκεκριμένα περιστατικά, στο δάσκαλο, στον διευθυντή, στις αρμόδιες Διευθύνσεις Εκπαίδευσης</a:t>
            </a:r>
            <a:r>
              <a:rPr b="0" lang="el-GR" sz="17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401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900" spc="-1" strike="noStrike">
                <a:solidFill>
                  <a:srgbClr val="572314"/>
                </a:solidFill>
                <a:latin typeface="Corbel"/>
              </a:rPr>
              <a:t>Οδηγίες για γονείς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-2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99640" y="765000"/>
            <a:ext cx="76345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rbel"/>
              </a:rPr>
              <a:t>Ζητήστε στήριξη από τον τοπικό Συμβουλευτικό Σταθμό Νέων ή άλλες υπηρεσίες ψυχολογικής στήριξη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4768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rbel"/>
              </a:rPr>
              <a:t>Συμβουλεύστε το παιδί σας να προσέχει σε ποιόν δίνει τον αριθμό του κινητού του τηλεφώνου και τη διεύθυνση του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el-GR" sz="2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ail</a:t>
            </a:r>
            <a:r>
              <a:rPr b="1" lang="el-GR" sz="2000" spc="-1" strike="noStrike">
                <a:solidFill>
                  <a:srgbClr val="000000"/>
                </a:solidFill>
                <a:latin typeface="Corbel"/>
              </a:rPr>
              <a:t> του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4768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rbel"/>
              </a:rPr>
              <a:t>Μην υποτιμάτε τις συνέπειες που μπορεί να έχει ο εκφοβισμός. Οι μύθοι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i="1" lang="el-GR" sz="2000" spc="-1" strike="noStrike">
                <a:solidFill>
                  <a:srgbClr val="000000"/>
                </a:solidFill>
                <a:latin typeface="Corbel"/>
              </a:rPr>
              <a:t>ε</a:t>
            </a:r>
            <a:r>
              <a:rPr b="1" i="1" lang="en-US" sz="20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1" i="1" lang="el-GR" sz="2000" spc="-1" strike="noStrike">
                <a:solidFill>
                  <a:srgbClr val="000000"/>
                </a:solidFill>
                <a:latin typeface="Corbel"/>
              </a:rPr>
              <a:t> παιδιά είναι, πειράζονται μεταξύ τους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1" lang="el-GR" sz="2000" spc="-1" strike="noStrike">
                <a:solidFill>
                  <a:srgbClr val="000000"/>
                </a:solidFill>
                <a:latin typeface="Corbel"/>
              </a:rPr>
              <a:t>, ή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i="1" lang="el-GR" sz="2000" spc="-1" strike="noStrike">
                <a:solidFill>
                  <a:srgbClr val="000000"/>
                </a:solidFill>
                <a:latin typeface="Corbel"/>
              </a:rPr>
              <a:t>έτσι θα σκληραγωγηθεί για να βγει στην κοινωνία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1" lang="el-GR" sz="2000" spc="-1" strike="noStrike">
                <a:solidFill>
                  <a:srgbClr val="000000"/>
                </a:solidFill>
                <a:latin typeface="Corbel"/>
              </a:rPr>
              <a:t>, μπορεί να ζημιώσουν το παιδί σας και να το οδηγήσουν σε δυστυχία και απομόνωση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4768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rbel"/>
              </a:rPr>
              <a:t>Απαιτείστε από το σχολείο να ενημερώσει τους γονείς του παιδιού-εκφοβιστή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4768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rbel"/>
              </a:rPr>
              <a:t>Αν ο εκφοβισμός δεν αντιμετωπίζεται, αλλάξτε σχολείο. Μιλήστε με το νέο σχολείο και βεβαιωθείτε ότι δεν υπάρχουν ή δεν γίνονται ανεκτοί εκεί οι εκφοβιστές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4768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476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560" y="-171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572314"/>
                </a:solidFill>
                <a:latin typeface="Corbel"/>
              </a:rPr>
              <a:t>Οδηγίες για το παιδί-θύμα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042920" y="1125360"/>
            <a:ext cx="7850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Κατ’ αρχάς, δεν φταις εσύ! Πολλοί επιτυχημένοι άνθρωποι είχαν πέσει θύματα εκφοβισμού στο σχολείο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3508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Διατήρησε την ψυχραιμία και την αυτοπεποίθησή σου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3508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Μην απαντάς στις κοροϊδίες, μη μπαίνεις σε διάλογο, κάνε ότι δεν τις ακούς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3508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Κοίταξέ τους στα μάτια και πες τους καθαρά και σταθερά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ΣΤΑΜΑΤΑ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3508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Πες αμέσως τι συνέβη στο δάσκαλό σου ή σε κάποιον άλλον ενήλικα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900" spc="-1" strike="noStrike">
                <a:solidFill>
                  <a:srgbClr val="572314"/>
                </a:solidFill>
                <a:latin typeface="Corbel"/>
              </a:rPr>
              <a:t>Οδηγίες για το παιδί-θύμα/2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560" y="1341360"/>
            <a:ext cx="7581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Αν φοβάσαι να το πεις σε κάποιον ενήλικα, πες το σε έναν φίλο και ζήτα του να είναι μαζί σου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Συνέχισε να το λες μέχρις ότου κάποιος σε βοηθήσει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Αν σου έστειλαν απειλητικό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sms</a:t>
            </a: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 ή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e-mail</a:t>
            </a: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 κράτησέ το, μην το σβήσεις, θα χρειαστεί ως απόδειξη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Μην πιστεύεις αυτά που σου λένε οι εκφοβιστές, να επαινείς τον εαυτό σου και να θυμίζεις στον εαυτό σου κάθε μέρα τα καλά σου σημεία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43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572314"/>
                </a:solidFill>
                <a:latin typeface="Corbel"/>
              </a:rPr>
              <a:t>Αν το παιδί σας εκφοβίζει άλλα παιδιά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116000" y="1197000"/>
            <a:ext cx="7580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Σταματήστε το αμέσως μόλις παρατηρήσετε επιθετική συμπεριφορά του παιδιού σας προς άλλα παιδιά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32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Εξηγείστε του ότι η συμπεριφορά δεν είναι αποδεκτή και ότι ο αντίκτυπος στα άλλα παιδιά είναι πολύ βαρύς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32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Διδάξετε στο παιδί σας τρόπους συμπεριφοράς για επίλυση συγκρούσεων που δεν περιλαμβάνουν βία. Επίσης διδάξτε του πώς να ζητά αυτό που θέλει με ευγενικό τρόπο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32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Μη χτυπάτε τα παιδιά ως τιμωρία για την επιθετική τους συμπεριφορά. Τους διδάσκετε ακριβώς αυτό που θέλετε να σταματήσουν: τη βία. Προτιμήστε την αφαίρεση προνομίων ως τιμωρία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572314"/>
                </a:solidFill>
                <a:latin typeface="Corbel"/>
              </a:rPr>
              <a:t>Αν το παιδί σας εκφοβίζει άλλα παιδιά-2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99640" y="1267920"/>
            <a:ext cx="80852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3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Επικοινωνήστε με το σχολείο και συζητείστε με το δάσκαλο για την αντιμετώπιση της επιθετικής συμπεριφοράς του παιδιού σας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3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Επαινείτε και ενισχύετε το παιδί σας κάθε φορά που επιδεικνύει συνεργατικές και φιλικές συμπεριφορές προς άλλα παιδιά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3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Ελέγχετε συχνά το παιδί σας για να βεβαιωθείτε ότι δεν έχει επιστρέψει σε επιθετικές συμπεριφορές</a:t>
            </a:r>
            <a:r>
              <a:rPr b="0" lang="el-GR" sz="2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3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00"/>
                </a:solidFill>
                <a:latin typeface="Corbel"/>
              </a:rPr>
              <a:t>Ζητείστε την βοήθεια κάποιου ειδικού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orbel"/>
              </a:rPr>
              <a:t>Ευχαριστώ για την προσοχή σας..!!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iovazolias@psy.soc.uoc.g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572314"/>
                </a:solidFill>
                <a:latin typeface="Corbel"/>
              </a:rPr>
              <a:t>Διαφορές ανάμεσα στον εκφοβισμό και στη σύγκρουση (</a:t>
            </a:r>
            <a:r>
              <a:rPr b="0" lang="en-US" sz="2700" spc="-1" strike="noStrike">
                <a:solidFill>
                  <a:srgbClr val="572314"/>
                </a:solidFill>
                <a:latin typeface="Gill Sans MT"/>
              </a:rPr>
              <a:t>conflict</a:t>
            </a:r>
            <a:r>
              <a:rPr b="0" lang="el-GR" sz="2700" spc="-1" strike="noStrike">
                <a:solidFill>
                  <a:srgbClr val="572314"/>
                </a:solidFill>
                <a:latin typeface="Corbel"/>
              </a:rPr>
              <a:t>)</a:t>
            </a:r>
            <a:endParaRPr b="0" lang="en-US" sz="27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971640" y="981000"/>
          <a:ext cx="7894440" cy="5746680"/>
        </p:xfrm>
        <a:graphic>
          <a:graphicData uri="http://schemas.openxmlformats.org/drawingml/2006/table">
            <a:tbl>
              <a:tblPr/>
              <a:tblGrid>
                <a:gridCol w="3946320"/>
                <a:gridCol w="394812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ύγκρου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κφοβισμό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Ισότιμη σχέση μεταξύ των μελώ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Άνιση κατανομή δύναμη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υχνή η ύπαρξη φιλικής σχέση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εν υπάρχει φιλική σχέσ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Λαμβάνει χώρα τυχαί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Έχει προγραμματιστε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πορεί να συμβεί μια μόνο φορά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ίναι συμπεριφορά επαναλαμβανόμεν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εν επιφέρει σοβαρές συνέπειες στο θύμ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πειλεί σοβαρά τόσο την φυσική όσο και την ψυχική υγεία του θύματο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εν αποσκοπεί στην απόκτηση δύναμη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τόχος η επιβεβαίωσ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κολουθεί συχνά μεταμέλεια – ανάληψη ευθύνης από το δράστ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πίρριψη ευθυνών στο θύμ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db2c9"/>
                </a:solidFill>
                <a:latin typeface="Gill Sans MT"/>
              </a:rPr>
              <a:t>Mορφ</a:t>
            </a:r>
            <a:r>
              <a:rPr b="0" lang="el-GR" sz="3800" spc="-1" strike="noStrike">
                <a:solidFill>
                  <a:srgbClr val="6db2c9"/>
                </a:solidFill>
                <a:latin typeface="Corbel"/>
              </a:rPr>
              <a:t>έ</a:t>
            </a:r>
            <a:r>
              <a:rPr b="0" lang="en-US" sz="3800" spc="-1" strike="noStrike">
                <a:solidFill>
                  <a:srgbClr val="6db2c9"/>
                </a:solidFill>
                <a:latin typeface="Gill Sans MT"/>
              </a:rPr>
              <a:t>ς εκφοβισμο</a:t>
            </a:r>
            <a:r>
              <a:rPr b="0" lang="el-GR" sz="3800" spc="-1" strike="noStrike">
                <a:solidFill>
                  <a:srgbClr val="6db2c9"/>
                </a:solidFill>
                <a:latin typeface="Corbel"/>
              </a:rPr>
              <a:t>ύ</a:t>
            </a:r>
            <a:endParaRPr b="0" lang="en-US" sz="3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00000" y="1484280"/>
            <a:ext cx="768672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1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0000"/>
                </a:solidFill>
                <a:uFillTx/>
                <a:latin typeface="Corbel"/>
              </a:rPr>
              <a:t>Σωματικός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:χτυπήματα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φτύσιμο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σπρώξιμο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κλωτσιέ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 σωματικές πράξεις που ταπεινώνουν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1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0000"/>
                </a:solidFill>
                <a:uFillTx/>
                <a:latin typeface="Corbel"/>
              </a:rPr>
              <a:t>Λεκτικός</a:t>
            </a:r>
            <a:r>
              <a:rPr b="1" lang="el-GR" sz="2600" spc="-1" strike="noStrike">
                <a:solidFill>
                  <a:srgbClr val="000000"/>
                </a:solidFill>
                <a:latin typeface="Corbel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αρνητικά σχόλια ή πειράγματα για την εμφάνιση, το ντύσιμο, τις πράξεις του ατόμο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 η δημόσια διαπόμπευση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1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0000"/>
                </a:solidFill>
                <a:uFillTx/>
                <a:latin typeface="Corbel"/>
              </a:rPr>
              <a:t>Συναισθηματικός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 (</a:t>
            </a:r>
            <a:r>
              <a:rPr b="1" lang="el-GR" sz="2600" spc="-1" strike="noStrike" u="sng">
                <a:solidFill>
                  <a:srgbClr val="000000"/>
                </a:solidFill>
                <a:uFillTx/>
                <a:latin typeface="Corbel"/>
              </a:rPr>
              <a:t>Έμμεσος)</a:t>
            </a:r>
            <a:r>
              <a:rPr b="1" lang="el-GR" sz="2600" spc="-1" strike="noStrike">
                <a:solidFill>
                  <a:srgbClr val="000000"/>
                </a:solidFill>
                <a:latin typeface="Corbel"/>
              </a:rPr>
              <a:t>: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 απόρριψη από την ομάδα, τρομοκρατία, ντρόπιασμα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db2c9"/>
                </a:solidFill>
                <a:latin typeface="Gill Sans MT"/>
              </a:rPr>
              <a:t>Mορφ</a:t>
            </a:r>
            <a:r>
              <a:rPr b="0" lang="el-GR" sz="4300" spc="-1" strike="noStrike">
                <a:solidFill>
                  <a:srgbClr val="6db2c9"/>
                </a:solidFill>
                <a:latin typeface="Corbel"/>
              </a:rPr>
              <a:t>έ</a:t>
            </a:r>
            <a:r>
              <a:rPr b="0" lang="en-US" sz="4300" spc="-1" strike="noStrike">
                <a:solidFill>
                  <a:srgbClr val="6db2c9"/>
                </a:solidFill>
                <a:latin typeface="Gill Sans MT"/>
              </a:rPr>
              <a:t>ς εκφοβισμο</a:t>
            </a:r>
            <a:r>
              <a:rPr b="0" lang="el-GR" sz="4300" spc="-1" strike="noStrike">
                <a:solidFill>
                  <a:srgbClr val="6db2c9"/>
                </a:solidFill>
                <a:latin typeface="Corbel"/>
              </a:rPr>
              <a:t>ύ </a:t>
            </a:r>
            <a:r>
              <a:rPr b="0" lang="el-GR" sz="3100" spc="-1" strike="noStrike">
                <a:solidFill>
                  <a:srgbClr val="6db2c9"/>
                </a:solidFill>
                <a:latin typeface="Corbel"/>
              </a:rPr>
              <a:t>(συν)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14400" y="1125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0000"/>
                </a:solidFill>
                <a:uFillTx/>
                <a:latin typeface="Corbel"/>
              </a:rPr>
              <a:t>Σεξουαλικός</a:t>
            </a:r>
            <a:r>
              <a:rPr b="1" lang="el-GR" sz="26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Σεξουαλική παρενόχληση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σεξουαλικά υπονοούμενα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Παρακολούθηση ιδιωτικής ζωής του θύματο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0000"/>
                </a:solidFill>
                <a:uFillTx/>
                <a:latin typeface="Corbel"/>
              </a:rPr>
              <a:t>Εκφοβισμός με τη χρήση της τεχνολογίας </a:t>
            </a:r>
            <a:r>
              <a:rPr b="1" lang="el-GR" sz="2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Cyberbullying)</a:t>
            </a:r>
            <a:r>
              <a:rPr b="1" lang="el-GR" sz="26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- απειλητικά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-mai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- τηλεφωνικά μηνύματα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Corbel"/>
              </a:rPr>
              <a:t>- κοινωνικά δίκτυα (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logs, forum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71640" y="1628280"/>
            <a:ext cx="7726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8dc765"/>
                </a:solidFill>
                <a:latin typeface="Corbel"/>
              </a:rPr>
              <a:t>Ρατσιστικός εκφοβισμός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Φυλετική παρενόχληση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«όλες οι πράξεις και συμπεριφορές οι οποίες εσκεμμένα ή με άλλο τρόπο, είτε κάνουν διακρίσεις εναντίον κάποιου είτε τον κάνουν να νιώθει ανεπιθύμητος ή περιθωριοποιημένος εξαιτίας της φυλετικής του ταυτότητας»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olly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 &amp;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nan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, 2000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187280" y="1773360"/>
            <a:ext cx="743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Το 29% των παρατηρούμενων επεισοδίων εκφοβισμού πραγματοποιείται μεταξύ Ελλήνων και αλλοδαπών μαθητών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undoumadi et al., 2003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55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ΕΚΚΕ (2006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0% 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κρούσματα βίας μεταξύ αλλοδαπών και Ελλήνων μαθητών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640" indent="-228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16% των εκπαιδευτικών διαπιστώνουν προβλήματα ένταξης των αλλοδαπών μαθητών στο σχολικό πλαίσιο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5" name="Title 2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116000" y="148104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83200" indent="-21456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Gill Sans MT"/>
              </a:rPr>
              <a:t>Ομοιότητε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3200" indent="-214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(σκοπιμότητα πράξης, ανισότητα δύναμης, διάθεση για κυριαρχία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3200" indent="-214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3200" indent="-21456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Gill Sans MT"/>
              </a:rPr>
              <a:t>Διαφοροποιήσεις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07120" indent="-214560">
              <a:spcBef>
                <a:spcPts val="601"/>
              </a:spcBef>
              <a:buClr>
                <a:srgbClr val="feb8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Οι πράξεις δεν αφορούν κατ’ανάγκη το ίδιο το άτομο, θίγεται πρωτίστως η ομάδα στην οποία ανήκε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07120" indent="-214560">
              <a:spcBef>
                <a:spcPts val="601"/>
              </a:spcBef>
              <a:buClr>
                <a:srgbClr val="feb8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Υπάρχει νομιμοποίηση/απενοχοποίηση στη συνείδηση του δράστη από αίσθηση υπεράσπισης των ‘συμφερόντων’ της ομάδας το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07120" indent="-214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7" name="Title 2" descr=""/>
          <p:cNvPicPr/>
          <p:nvPr/>
        </p:nvPicPr>
        <p:blipFill>
          <a:blip r:embed="rId1"/>
          <a:stretch/>
        </p:blipFill>
        <p:spPr>
          <a:xfrm>
            <a:off x="901800" y="195120"/>
            <a:ext cx="824220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7:36:38Z</dcterms:created>
  <dc:creator>AKIS</dc:creator>
  <dc:description/>
  <dc:language>en-US</dc:language>
  <cp:lastModifiedBy>lemonaki</cp:lastModifiedBy>
  <dcterms:modified xsi:type="dcterms:W3CDTF">2011-12-19T13:40:06Z</dcterms:modified>
  <cp:revision>23</cp:revision>
  <dc:subject/>
  <dc:title>Slide 1</dc:title>
</cp:coreProperties>
</file>