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56D-8123-47BD-AD6E-91843685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800-FE06-42D3-81CC-83A4A65C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7D6-392A-4ED3-A922-0134C6BC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8B8-609E-4793-B345-4A3844B6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44FA-D8EC-4FA0-8001-AF395DA8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437F-98EE-4C8F-A99E-6231F296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AADA-BD63-4780-A14F-ED73ACF5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C7CB-F241-4E59-ADD3-BB92C958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75B3-CBF5-4057-AF5E-C6ADC331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2994-AE52-433D-B5B7-3828884D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CC4E-E394-4156-8995-36EC9161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0A2-C740-4110-B2DB-72166DCC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DAAE-ACB1-4C6B-B6F7-A5642B76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7B57-2144-4D48-804D-15E0B4AB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68A7-0119-4527-A636-8B3CEF5A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AE35-D07B-437B-91D8-FC3B1D5B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8B9A-B4D9-4BAE-8B2F-6AAFBE72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CC1E-30E7-4293-9E08-DF033EB6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412A-11AD-4C5C-ABBF-CCBFDB74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18E7A-B662-4762-A4A9-15F3CCF9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2E950-0ACF-4E2B-B32F-09C39CB3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0A05-EE4E-40C2-95BF-19B2D196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41A-BFB5-4EDD-89FA-6514745D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9BC9E-DC09-411A-9F12-8506B16E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E33C2-CE36-4801-A826-701224E0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B6391-6AD0-48D1-98D1-71747878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AC948-6B08-4C03-963A-5B10AC83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CB5CE-0AE4-420A-B03E-38EABD76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E7818-0985-4D64-921D-F7A4F12B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36195-6EC0-46F0-8009-7F4C815E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F6CCF-5402-4094-B777-41754549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38A50-1274-4086-8835-D82D3E31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2D55B-247B-440B-BA1C-C05A741A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6926-355F-4EB5-B72D-5D89E073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0F2E4-8FBF-496F-B6B7-F2BCFC16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F42EA-1B1E-4B77-9489-18C6E191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1AB48-16E6-41E1-A766-CA8B1AB0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A695A-5A3E-4AB0-933F-4E76BDD1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5FB59-CB8C-413D-8DF1-6A2AAF37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D4FC1-D33F-4191-9789-672072E1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D6702-044C-4C3F-9648-BD6BF0B0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EF4B6-A780-4BDD-B57D-5863B354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5E865-6366-4E0C-A2A7-E5EE4A04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1F1-C51C-4252-AB91-ECF4C89D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2200-CDF7-44BE-A2C9-D7DCC857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FFF-7B42-47D8-BEC4-64F67B67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DDF-EB70-4B72-9AEA-61866FD7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F9C-E0E7-43B2-AEC8-3882DA67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- Ορθογώνιο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- Ορθογώνιο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8E5E-0D20-4BF1-AD76-BE442E8FD58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7 - Ορθογώνιο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8 - Ορθογώνιο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C884-BD12-4F54-B080-CE18C8669C4B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8 - Ορθογώνιο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8" name="8 - Ορθογώνιο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F524-A329-43B1-9FD3-946685E8DF3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8 - Ορθογώνιο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2" name="8 - Ορθογώνιο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8D23-E44F-4B8B-AB26-9EA2A23F662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66"/>
                </a:solidFill>
                <a:latin typeface="Trebuchet MS"/>
              </a:rPr>
              <a:t>Αθηνά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66"/>
                </a:solidFill>
                <a:latin typeface="Trebuchet MS"/>
              </a:rPr>
              <a:t>Αφροδίτη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66"/>
                </a:solidFill>
                <a:latin typeface="Trebuchet MS"/>
              </a:rPr>
              <a:t>αφήνω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66"/>
                </a:solidFill>
                <a:latin typeface="Trebuchet MS"/>
              </a:rPr>
              <a:t>κάθομα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66"/>
                </a:solidFill>
                <a:latin typeface="Trebuchet MS"/>
              </a:rPr>
              <a:t>θέλω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66"/>
                </a:solidFill>
                <a:latin typeface="Trebuchet MS"/>
              </a:rPr>
              <a:t>φεύγω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66"/>
                </a:solidFill>
                <a:latin typeface="Trebuchet MS"/>
              </a:rPr>
              <a:t>θάρρο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66"/>
                </a:solidFill>
                <a:latin typeface="Trebuchet MS"/>
              </a:rPr>
              <a:t>φίλο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7" name="1 - Τίτλος" descr=""/>
          <p:cNvPicPr/>
          <p:nvPr/>
        </p:nvPicPr>
        <p:blipFill>
          <a:blip r:embed="rId1"/>
          <a:stretch/>
        </p:blipFill>
        <p:spPr>
          <a:xfrm>
            <a:off x="115920" y="152280"/>
            <a:ext cx="8047080" cy="12002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4:20:22Z</dcterms:created>
  <dc:creator>admin</dc:creator>
  <dc:description/>
  <dc:language>en-US</dc:language>
  <cp:lastModifiedBy>Marianna</cp:lastModifiedBy>
  <dcterms:modified xsi:type="dcterms:W3CDTF">2013-11-14T11:40:23Z</dcterms:modified>
  <cp:revision>150</cp:revision>
  <dc:subject/>
  <dc:title>Διαφάνεια 1</dc:title>
</cp:coreProperties>
</file>